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BA1EC-DCFD-440A-8974-278B2C135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216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50433-1D3B-4181-B8B4-683069614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216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216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15838-BE19-4849-93C3-B2239C78B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066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066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216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216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216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146A7-6CD6-4709-BAFE-351BF2516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7260B-A5EE-4860-8D00-42255E228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E4A99-60BD-413D-9D18-C4526CA38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98BC9-0E74-48CD-A038-EFE7C76FE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9A83B-CC8F-4604-8C58-B49379502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85B41-8259-45EA-81E2-DC83627E8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216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90934-CB64-4A13-858C-49EE2D505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216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28D14-EBEF-4CF2-82FE-8BE0EEFFF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216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55134-5EDC-4C73-B7A8-6AF56E3A9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D9AE2-29D3-40B0-9446-ED0C931CD5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be0e3"/>
                </a:solidFill>
                <a:latin typeface="Arial Narrow"/>
              </a:rPr>
              <a:t>Apostles’ Creed (baptismal form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66"/>
                </a:solidFill>
                <a:latin typeface="Arial"/>
              </a:rPr>
              <a:t>In unity with the whole Church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66"/>
                </a:solidFill>
                <a:latin typeface="Arial"/>
              </a:rPr>
              <a:t>let us stand and affirm the faith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66"/>
                </a:solidFill>
                <a:latin typeface="Arial"/>
              </a:rPr>
              <a:t>into which we were baptise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324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 Narrow"/>
              </a:rPr>
              <a:t>1 of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Do you believe in God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I believe in God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the Father Almighty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creator of heaven and earth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6324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 Narrow"/>
              </a:rPr>
              <a:t>2 of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Do you believe in Jesus Chris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I believe in Jesus Christ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God’s only Son, our Lord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ho was conceive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by the Holy Spirit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born of the Virgin Mary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6324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 Narrow"/>
              </a:rPr>
              <a:t>3 of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suffered under Pontius Pilate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as crucified, died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nd was buried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he descended to the dea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6324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 Narrow"/>
              </a:rPr>
              <a:t>4 of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On the third day he rose again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he ascended into heaven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he is seated at the right han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of the Father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nd he will come to judge the living and the dea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6324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 Narrow"/>
              </a:rPr>
              <a:t>5 of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Do you believe in the Holy Spiri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I believe in the Holy Spirit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the holy catholic Church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the communion of saints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the forgiveness of sins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the resurrection of the body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nd the life everlasting. Ame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6324480"/>
            <a:ext cx="83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 Narrow"/>
              </a:rPr>
              <a:t>6 of 6</a:t>
            </a:r>
            <a:r>
              <a:rPr b="0" lang="en-US" sz="2400" spc="-1" strike="noStrike">
                <a:solidFill>
                  <a:srgbClr val="bbe0e3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bbe0e3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bbe0e3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bbe0e3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bbe0e3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bbe0e3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bbe0e3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bbe0e3"/>
                </a:solidFill>
                <a:latin typeface="Arial Narrow"/>
              </a:rPr>
              <a:t>ELLC 198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5T01:40:14Z</dcterms:created>
  <dc:creator>Anon Anon</dc:creator>
  <dc:description/>
  <dc:language>en-US</dc:language>
  <cp:lastModifiedBy>Anon Anon</cp:lastModifiedBy>
  <dcterms:modified xsi:type="dcterms:W3CDTF">2005-08-16T04:23:11Z</dcterms:modified>
  <cp:revision>19</cp:revision>
  <dc:subject/>
  <dc:title>PowerPoint Presentation</dc:title>
</cp:coreProperties>
</file>